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04D3-8879-4D38-BDBD-0B05BF93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EC95-1E47-4F4D-927B-C3A776B0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8C3F-F391-42DE-95DC-D454B5D4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3ED9-39B2-4003-9E79-CEFAE592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DE09-4383-4D44-9EEB-443DE3EE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84AF-13DA-4FCF-8B10-822CB304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0AE8-E990-427C-9B1F-90E4CBD9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B925-093B-403C-97B0-450A6B14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B04E-9E6C-4046-B146-81F6DDF2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C00A-30E2-4BC9-AD20-51A5302D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41CD-14F2-4557-838A-210936BD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3BC-DED7-424C-A971-0E737B80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0731-6ED8-4FD4-ADAC-AA56E779F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405360"/>
            <a:ext cx="17524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1920" y="990360"/>
            <a:ext cx="2590920" cy="5638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7760" y="533160"/>
            <a:ext cx="2971800" cy="6095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00440" y="380520"/>
            <a:ext cx="25909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405360"/>
            <a:ext cx="17524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1920" y="990360"/>
            <a:ext cx="2590920" cy="5638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47760" y="533160"/>
            <a:ext cx="2971800" cy="6095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400440" y="380520"/>
            <a:ext cx="25909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5T13:05:01Z</dcterms:created>
  <dc:creator>Sharon Shelhamer</dc:creator>
  <dc:description/>
  <dc:language>en-US</dc:language>
  <cp:lastModifiedBy>Sharon Shelhamer</cp:lastModifiedBy>
  <dcterms:modified xsi:type="dcterms:W3CDTF">2011-09-25T13:18:03Z</dcterms:modified>
  <cp:revision>2</cp:revision>
  <dc:subject/>
  <dc:title>Slide 1</dc:title>
</cp:coreProperties>
</file>